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2.png" ContentType="image/png"/>
  <Override PartName="/ppt/media/image17.jpeg" ContentType="image/jpeg"/>
  <Override PartName="/ppt/media/image16.png" ContentType="image/pn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A184-708C-4D6F-A082-E92936FDC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31F9-D830-4D5A-ACE7-E656FBE10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60F3-D959-4517-9290-BFAA970FE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61E3-1697-488B-B277-7E686137B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C888-80BA-463C-B201-B869D673E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9844-D3C8-4DD2-A0ED-133403338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A6FE-DFD0-4FC1-A1AA-43282D6F7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8B1B-4D07-4EA4-AB62-6F2B924B8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A925-7F2F-4E8E-8673-DAC06B732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0727-BED7-4E7F-8A6F-6CD4FE38A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D584-3CBB-43C9-976C-729A213F1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95D3-E7A8-4630-BFEB-10289CEDD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41528-38A7-4B7E-8CB7-EE15ED82A4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delivery.superstock.com/WI/223/1569/PreviewComp/SuperStock_1569R-160007.jpg" TargetMode="External"/><Relationship Id="rId2" Type="http://schemas.openxmlformats.org/officeDocument/2006/relationships/hyperlink" Target="http://www.busymom.net/reviews/dunkin-donuts.jpg" TargetMode="External"/><Relationship Id="rId3" Type="http://schemas.openxmlformats.org/officeDocument/2006/relationships/hyperlink" Target="http://maxcdn.fooyoh.com/files/attach/images/3004/586/290/004/17-Dunkin-Donuts-Plain-Bagel.jpg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i pudiera cambiar el mun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00200" y="1447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 salva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ía Dunkin Donu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dunkindonuts3"/>
          <p:cNvPicPr/>
          <p:nvPr/>
        </p:nvPicPr>
        <p:blipFill>
          <a:blip r:embed="rId1"/>
          <a:stretch/>
        </p:blipFill>
        <p:spPr>
          <a:xfrm>
            <a:off x="2057400" y="2286000"/>
            <a:ext cx="457200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dd2"/>
          <p:cNvPicPr/>
          <p:nvPr/>
        </p:nvPicPr>
        <p:blipFill>
          <a:blip r:embed="rId1"/>
          <a:stretch/>
        </p:blipFill>
        <p:spPr>
          <a:xfrm>
            <a:off x="0" y="152280"/>
            <a:ext cx="3733920" cy="1293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images"/>
          <p:cNvPicPr/>
          <p:nvPr/>
        </p:nvPicPr>
        <p:blipFill>
          <a:blip r:embed="rId2"/>
          <a:stretch/>
        </p:blipFill>
        <p:spPr>
          <a:xfrm>
            <a:off x="6858000" y="533520"/>
            <a:ext cx="2060640" cy="2525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dd1"/>
          <p:cNvPicPr/>
          <p:nvPr/>
        </p:nvPicPr>
        <p:blipFill>
          <a:blip r:embed="rId3"/>
          <a:stretch/>
        </p:blipFill>
        <p:spPr>
          <a:xfrm>
            <a:off x="0" y="1752480"/>
            <a:ext cx="3305160" cy="44960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2"/>
          <p:cNvSpPr/>
          <p:nvPr/>
        </p:nvSpPr>
        <p:spPr>
          <a:xfrm>
            <a:off x="2917080" y="1600200"/>
            <a:ext cx="406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ground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6" descr="http://www.busybuzzblogging.com/wp-content/uploads/2010/05/Free-Iced-Coffee-Day-2010-At-Dunkin-Donuts.jpg"/>
          <p:cNvPicPr/>
          <p:nvPr/>
        </p:nvPicPr>
        <p:blipFill>
          <a:blip r:embed="rId4"/>
          <a:stretch/>
        </p:blipFill>
        <p:spPr>
          <a:xfrm>
            <a:off x="5257800" y="3048120"/>
            <a:ext cx="1905120" cy="2571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8" descr="http://www.busybuzzblogging.com/wp-content/uploads/2010/05/Free-Iced-Coffee-Day-2010-At-Dunkin-Donuts.jpg"/>
          <p:cNvPicPr/>
          <p:nvPr/>
        </p:nvPicPr>
        <p:blipFill>
          <a:blip r:embed="rId5"/>
          <a:stretch/>
        </p:blipFill>
        <p:spPr>
          <a:xfrm>
            <a:off x="7238880" y="4286160"/>
            <a:ext cx="1905120" cy="2571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0" descr="http://www.busybuzzblogging.com/wp-content/uploads/2010/05/Free-Iced-Coffee-Day-2010-At-Dunkin-Donuts.jpg"/>
          <p:cNvPicPr/>
          <p:nvPr/>
        </p:nvPicPr>
        <p:blipFill>
          <a:blip r:embed="rId6"/>
          <a:stretch/>
        </p:blipFill>
        <p:spPr>
          <a:xfrm>
            <a:off x="3276720" y="4286160"/>
            <a:ext cx="1904760" cy="2571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2" descr="http://maxcdn.fooyoh.com/files/attach/images/3004/586/290/004/17-Dunkin-Donuts-Plain-Bagel.jpg"/>
          <p:cNvPicPr/>
          <p:nvPr/>
        </p:nvPicPr>
        <p:blipFill>
          <a:blip r:embed="rId7"/>
          <a:stretch/>
        </p:blipFill>
        <p:spPr>
          <a:xfrm>
            <a:off x="3276720" y="2590920"/>
            <a:ext cx="1993680" cy="151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2"/>
          <p:cNvSpPr/>
          <p:nvPr/>
        </p:nvSpPr>
        <p:spPr>
          <a:xfrm>
            <a:off x="3678120" y="477720"/>
            <a:ext cx="40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Backgr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5"/>
          <p:cNvSpPr/>
          <p:nvPr/>
        </p:nvSpPr>
        <p:spPr>
          <a:xfrm>
            <a:off x="63360" y="-912960"/>
            <a:ext cx="2438640" cy="18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5334120" y="3809880"/>
            <a:ext cx="3398760" cy="2614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2"/>
          <a:stretch/>
        </p:blipFill>
        <p:spPr>
          <a:xfrm>
            <a:off x="63360" y="507960"/>
            <a:ext cx="2895840" cy="2895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"/>
          <p:cNvPicPr/>
          <p:nvPr/>
        </p:nvPicPr>
        <p:blipFill>
          <a:blip r:embed="rId3"/>
          <a:stretch/>
        </p:blipFill>
        <p:spPr>
          <a:xfrm>
            <a:off x="2989440" y="189540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bfast club"/>
          <p:cNvPicPr/>
          <p:nvPr/>
        </p:nvPicPr>
        <p:blipFill>
          <a:blip r:embed="rId1"/>
          <a:stretch/>
        </p:blipFill>
        <p:spPr>
          <a:xfrm>
            <a:off x="4084560" y="380880"/>
            <a:ext cx="3886200" cy="38862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"/>
          <p:cNvSpPr/>
          <p:nvPr/>
        </p:nvSpPr>
        <p:spPr>
          <a:xfrm>
            <a:off x="380880" y="152280"/>
            <a:ext cx="3733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 clau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f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tired"/>
          <p:cNvPicPr/>
          <p:nvPr/>
        </p:nvPicPr>
        <p:blipFill>
          <a:blip r:embed="rId2"/>
          <a:stretch/>
        </p:blipFill>
        <p:spPr>
          <a:xfrm>
            <a:off x="304920" y="1906560"/>
            <a:ext cx="3609720" cy="3610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" descr=""/>
          <p:cNvPicPr/>
          <p:nvPr/>
        </p:nvPicPr>
        <p:blipFill>
          <a:blip r:embed="rId3"/>
          <a:stretch/>
        </p:blipFill>
        <p:spPr>
          <a:xfrm>
            <a:off x="5334120" y="4524480"/>
            <a:ext cx="208584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an of action/ Si clauses/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flier"/>
          <p:cNvPicPr/>
          <p:nvPr/>
        </p:nvPicPr>
        <p:blipFill>
          <a:blip r:embed="rId1"/>
          <a:stretch/>
        </p:blipFill>
        <p:spPr>
          <a:xfrm>
            <a:off x="3475080" y="1057320"/>
            <a:ext cx="5392800" cy="3828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http://pack310qc.org/images/dollar-signs-money.jpg"/>
          <p:cNvPicPr/>
          <p:nvPr/>
        </p:nvPicPr>
        <p:blipFill>
          <a:blip r:embed="rId2"/>
          <a:stretch/>
        </p:blipFill>
        <p:spPr>
          <a:xfrm>
            <a:off x="609480" y="2971800"/>
            <a:ext cx="2409840" cy="3333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" descr=""/>
          <p:cNvPicPr/>
          <p:nvPr/>
        </p:nvPicPr>
        <p:blipFill>
          <a:blip r:embed="rId3"/>
          <a:stretch/>
        </p:blipFill>
        <p:spPr>
          <a:xfrm>
            <a:off x="2666880" y="1523880"/>
            <a:ext cx="1676520" cy="2276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"/>
          <p:cNvPicPr/>
          <p:nvPr/>
        </p:nvPicPr>
        <p:blipFill>
          <a:blip r:embed="rId4"/>
          <a:stretch/>
        </p:blipFill>
        <p:spPr>
          <a:xfrm>
            <a:off x="5576760" y="4729320"/>
            <a:ext cx="322920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luding Sent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dunkin_donuts"/>
          <p:cNvPicPr/>
          <p:nvPr/>
        </p:nvPicPr>
        <p:blipFill>
          <a:blip r:embed="rId1"/>
          <a:stretch/>
        </p:blipFill>
        <p:spPr>
          <a:xfrm>
            <a:off x="457200" y="1143000"/>
            <a:ext cx="822960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tios w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delivery.superstock.com/WI/223/1569/PreviewComp/SuperStock_1569R-160007.jp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busymom.net/reviews/dunkin-donuts.jp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maxcdn.fooyoh.com/files/attach/images/3004/586/290/004/17-Dunkin-Donuts-Plain-Bagel.jp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ttp://pack310qc.org/images/dollar-signs-money.jp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ttp://publishedwriterforhire.wordpress.com/2011/10/23/website-content-writing-and-letter-writin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ttp://en.wikipedia.org/wiki/Barack_Oba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ttp://www.sodahead.com/fun/did-you-have-a-white-christmas/question-2356407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1T12:29:29Z</dcterms:created>
  <dc:creator>jbarber</dc:creator>
  <dc:description/>
  <dc:language>en-US</dc:language>
  <cp:lastModifiedBy>Jessica Kaplan</cp:lastModifiedBy>
  <dcterms:modified xsi:type="dcterms:W3CDTF">2012-05-17T11:47:42Z</dcterms:modified>
  <cp:revision>12</cp:revision>
  <dc:subject/>
  <dc:title>Si pudiera cambiar el mundo</dc:title>
</cp:coreProperties>
</file>